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E14-F0CF-4B2D-AA78-EAA155DF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358-78C8-416D-B66F-6FC64138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2F90A-6F77-492C-A786-1EC178AE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B46B7-98B6-4DD6-87E2-A32FD940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B16BC-AB2B-4A1A-9CFE-0F83B546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4D085-2A63-4382-9241-6820CDE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BE399-1C37-4609-8CFA-B3D7A4B1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50EB8-0811-4D56-A0E0-63DA25FF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1FF66-D376-4CB8-8101-918C1E61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41A47-4D0C-4FC7-8E8D-ED99FE51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680BD-A00D-420E-B73B-C204A870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6A6B9-9131-4847-9558-A36C8032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B0D-0A42-4BE0-A574-1CEA85E3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F03D9-2616-484D-B553-5B5F1B5A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1B762-1D64-4AE7-9719-9FDAAC7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69DE3-8D77-4F8F-8CCC-D953377F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22FB6-6A7E-4ABE-9BA1-C2455C75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21D32-36F8-4DF3-8798-C561DF32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53735-D78D-4A4A-8644-F21016D1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E96DD-0388-4DD5-960E-34E965D2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12870-995A-474B-8BE9-6E67801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18A35-E744-4C10-9137-863746AD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E352D-727F-4B82-B4F9-5DED8D43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CBC-BE71-4E81-91C3-34876ACE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909C0-FC79-4687-8BA9-FE79C594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EDAC3-C12B-4FA0-86AC-0E24F93D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37A3E-3F24-4C3D-AC9D-FEBB80AC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BA6A0-1922-41D9-B6D4-7ED8BE92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64C0C-C356-4CB1-97C9-A26A1C31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D4AB2-7BBD-4A04-9692-8F762971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88B41-A3F3-4CEC-9876-F8B20F1F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3BBA7-7D3C-4D7E-9C91-0253E84F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9CB8E-359F-415A-85B6-7EB6A08D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FBFA5-C652-4BD7-BA92-83B2DEF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BBC4-550F-4464-BA0D-0D2577F3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98275-1C46-43A0-A9C9-4831B13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72A28-B862-4FEC-90CF-A11B8FD0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5E9EA-3828-4AD8-9454-D5AC91EB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0C16B-4E2D-4686-B7F9-BF9E1935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3501E-788F-40B5-A1FA-0938222A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1B59B-54B3-4722-8D69-437A68B8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D7784-6933-4342-854E-7A1608DD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530F1-1704-46E0-BD37-B59072C1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B1F80-E3FE-423C-9B7D-FC74A7FE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A65D4-3518-4FC4-8D78-6471A87B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E533-D494-46E7-BE68-FD0687CE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9A41D-7BED-4977-8ACE-6E1FD23B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DA9E5-6F7D-4404-9CC2-01572A0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B231E-2621-49BD-819E-A62D5C13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7BB93-AF9C-4B9E-92B4-9AD4C72A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9BE1B-E30E-4B85-B192-4051FFBB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891BC-FCE7-45D4-87DB-4E0839E7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69366-0FA9-47A8-BB07-151FD92D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F98E7-3A1C-4E2A-A61E-B1D6FE61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425BF-E5DE-41D6-A650-93483EDA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7ED4B-6064-4C63-A161-E016232F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3A99-0022-40F2-B314-754C8EE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FC93E-8272-43F2-A6BF-93E5A1C1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C9DA0-84D1-40B5-A7DC-5461D27F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49632-BF97-42A1-9B6C-AC1D965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8CF5E-9FA8-449F-9083-FDB9FC2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35F14-23BC-4998-B34D-EB939BB9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7632E-2339-42B3-9BFF-763EA30E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791ED-14E1-4897-93AD-5A6CE9B9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2CBA0-F716-41D4-9B2B-F1179647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D9CEC-0F36-4F86-B1C2-973DE98C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92AE8-7C5B-4CB4-AC83-B9DEA5BF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DB0E-33D2-4DC9-9C52-C76B7489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2A403-A1A7-462F-9474-AC576658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AC936-AA56-43C3-A33F-AC0985F9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4F732-E7A4-48B5-8933-D47E1CD0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74DE9-1F38-4508-A3A3-4ACE1F11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7EC2E-61B6-466E-91AA-9279F61F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4D33D-A844-4B45-A553-42EACA8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3BDA5-9EA6-40B2-A044-A8F9881D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CD16D-0AA2-48E1-940F-2D2CBAA3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97B99-176F-46C6-8140-2FC9E69E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095BB-446B-4DFB-89AF-0800962F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FED9-423D-4D28-9A69-CCD7C82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EAB4B-8DB7-4041-A8D0-CA373B6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75D70-2B61-4BD7-881C-3FE29BB8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9305E-C9F2-48A8-AB37-8D50F12F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30705-8E89-4AC3-A090-BC3E5647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3C809-8EA2-4333-9455-D59DFE2D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4942D-FF30-4AB7-BC3D-24DCEC9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D1DB2-926F-4985-BD24-71A3F04B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5F703-8683-4526-BFE3-87E09FB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ABED3-D469-46ED-8A26-DDD661D6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9EFAC-1763-406F-A9F5-99278A5A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259D-3D51-44D8-8BD2-87774F59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999BB-84CF-4425-B7A8-E6A7D9BD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E3F9F-090D-4B1F-ABFA-8080EE4E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EF5FB-E0B7-4FCC-8770-FBEBCF8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57C0AB-9C17-4FAC-9487-78EBCFA1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98827-CB1E-43CB-AA5A-2789A470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E4F99-CBD9-40FC-A549-DC31097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57E6E-EFD4-4BBD-95F4-5AD7FD09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E11C4-804A-4DD6-8114-D80F6E43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A1135-A6E6-40F3-8887-2583CE10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18182-88FF-4C6A-B684-B371FCD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EB13-9270-4706-B290-8D27AFD1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36A84-2D03-4E33-BBD5-B7D5FC6D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CF50B-EE38-4EDB-9FAC-1E7902E3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5D4EA-07D6-4E6C-B8E6-7FE68D0E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A7E2A-29FC-42BA-B5BB-66275EE5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214F0-E3DE-4C69-BDF2-19F2E5E0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92DA2-D51C-4C56-BF6E-12709E83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B67EC-12F5-465F-87E5-75D50A2C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929168-047C-4C99-AB6C-3C237F94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E9011-8750-4760-9527-BADF86A0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131AF-8F93-410D-9FDE-BC12021A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915-EF3A-4BCE-B7CD-7840FDF4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6FC-328D-4A38-AECC-5B6CC338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91229-82A0-44F5-ABF6-81E9C2D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C638F-56C8-400A-9923-705A61E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130B2-FB45-4649-8137-46A22FDB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BC82B-224C-42E4-AF43-E8CDC595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9511B-7695-4836-B716-D6A7334A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796E8-F849-4FAC-9930-F60A36F3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9566AF-C1CC-42E5-BA7D-651BAE0C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8A0EC-DB56-4770-AE45-A27E70E0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B918A-6AEF-4FED-829D-FBA4D230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3EF74-3501-4121-894B-9D12CCB6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C289-1D20-4C82-944B-F91A2359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D19BF-2946-46CF-854E-25A4B888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A06806-706A-41B2-B4FC-1E4A2A80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CDDA4-0265-4C72-A059-7D57153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0D2D4-DEAF-4AB6-A85B-02BB1386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CAAA51-4ADA-40F7-B3F4-9ABD098B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5E286-9CAF-414A-9E6D-80632D04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A9678-29F3-4717-9924-2BC95C55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CFB41D-CE1E-4F54-913E-03753CED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6A0CFF-B609-458A-9F5D-2BD8B530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B084D-FFC1-4438-81B2-DA9596C3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53B3-C951-4563-A502-D2790D26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B9545-CAE5-463E-BF8E-0C0FC431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5BCC4-08EE-415C-B80E-DB987655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CB18FF-E01C-4F27-90C5-A5B663AA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9D722-2D19-44BD-9E39-35C5756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C4FDC0-3905-4531-9B86-0F1F62E7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322FE-62B9-47A5-AF37-6FA81808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C916C-58D2-47FF-938C-39961DB8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768AF5-C004-449D-A26F-B4FF997C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F6CA7-F5B8-41A5-AEEB-557ACDC9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87613F-4265-4414-92F0-679E63A8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DA88-90A4-489D-959E-AC83BC07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92844-E570-436F-BB3D-D27D26EA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48FA8-B979-4291-91D9-0EF9462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A8DF6-EDBB-4C38-A51C-F46D59BF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556931-1D88-498A-93FB-8AD77273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D0C3B-3285-4A06-8EFB-535C0FA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37C7F9-1181-4B95-8403-D1A77E6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38511-65F0-439A-B121-8A7C7804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44585D-ED45-4262-90DA-5663F414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DA0F95-B983-4F55-A343-06221950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5FD12-3A8B-42C5-A67D-31A69635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0214-04A0-4BE1-A97C-BF6E8212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47FF0-E8FD-4566-BA30-B3C6F0F7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75AF7-A3A6-4708-96FE-5E209957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D7977-99E7-4A7F-B3CE-2070B5CF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AC79A1-7B64-42D1-8292-8C081B44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A6FA1-01EA-418A-B06D-7B43AA11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9ABFFC-26CC-4C9C-9A3F-763CDC50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DAA386-0318-40B0-85B5-017CA8C1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800E4-A379-4C27-B9E6-759B889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60FCE-B097-4417-B5DC-0BDF045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200BD-ABB7-4FAD-8DC1-1EE6E75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D233-01F0-46E3-8436-0D7EFF28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B75F4-8ABE-4B19-8281-78D666C8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3F1701-E3EA-4989-8585-E79BD708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34451-7BD3-42E8-BFE8-6FFC9C38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E9407D-4F91-41E4-A54C-AA64BA4C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99D8B3-3CBC-4FF3-A1A1-A0D92784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5E2782-0C67-4E32-8155-B1E0EDD2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4A5F63-D70C-4A06-A49E-EBA9CE00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531044-712B-4358-93E2-0DA59444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426475-8292-4842-BBAD-7A48AF8C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30FFA9-DC02-4E23-B00E-E5B5739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9C534-E7F7-48FD-B68E-386B06F5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90CECC-32CC-4E82-90AC-B1880D9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6BA47-EB05-44E1-BA9C-66CBA25F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D26C45-9F40-4ADD-8D74-7CB024C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9C5A7C-D393-4666-91E3-04B17B6F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21069-1277-42F6-B85F-389B1B18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263B55-7499-477E-9D34-D125F1B8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902EE1-70CC-4D8A-9F6E-08E865B9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054373-6EA3-4385-8EE3-ED1F8801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D1C8AC-7C58-4460-A90F-A9E8E66A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009DE0-6598-42E3-9333-8CE97D4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AD17-6170-4E0B-A21B-5D07BE56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AFBEC7-8C38-4C31-A068-1D63CA25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D8AF3E-8BA9-4FEA-BF23-1F80AA8B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365423-70EF-4002-918E-706AB6A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4BCD6B-7C9C-4B35-B92E-7C3DD4C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1056C4-C01E-4C8A-AC7A-2E6E8908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361D52-3B8C-4E5D-997D-1051C5AC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900399-E8DA-4411-A5E4-7FF4FEC2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4CB992-7481-4B48-9E26-40707CE7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C72918-27A0-4139-B6DD-9084C716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53F83C-83E1-42CB-99C9-72B7B54E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ED14-4076-4353-A230-AAE613E9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CA5726-2613-4E96-AECC-177E3775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9E5147-CBC7-4D75-B278-B8AD6A51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986BCE-FC98-4EA9-AA79-A5CDAF36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AD3376-1B84-45BB-A06D-E806215F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77CF35-FD30-4654-86EC-725A4664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ABA7C5-4E82-477D-BB12-D5B3A2CF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06B52F-991B-4EEF-87C7-AA2E9001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A44BE3-9F3C-463D-A57F-2F2EFB21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3F7A2A-80EA-4125-9F57-3DD961F4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FFECB2-E958-40FB-8CD6-F756BC66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17BE-7596-496E-A168-175051D2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E5B6A6-778D-4935-B280-7A36B25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F64091-0532-48E2-9455-A7253969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28F8C4-E882-4EAB-9D02-ADDB1DAA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889F8F-61F4-4193-A8B2-EAD2514C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EA2AE2-AF09-4769-ABA7-FF3A0A18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7FB4D4-D98F-4333-9ECB-439AD61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2FCDC9-FB8E-4075-BDAB-C7BDAC9E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7B92D3-EFB4-4F95-AD4A-1AC94C8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5DBBE4-6EB4-409B-A265-6B809DC2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CFBAF0-D0F8-4035-B58B-C91D3105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605-8543-4262-9E78-CB84568F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AFF1-90B2-4DE8-A7E6-84A913EC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91714C-14BC-4434-BF21-864FA9BD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9B0EDE-7601-4A4B-B920-62920268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8F502F-E516-44EF-AAD1-94CD1919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DF77F4-3C8F-4FBD-98C0-89072D1B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16AA50-E161-453A-B27D-E20D0324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B78777-81B1-4AEE-82EC-2D69B36E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E371CE-77BF-4932-BA33-010988A8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8F0F4E-381B-4BEB-AA16-7A8A254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7C85C8-4F22-402A-813C-7997126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312D46-E0E3-4B9E-9E5E-89F07FC7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35BF-7581-4613-A7C4-4DC40B8B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5EE554-A97A-4DF5-8123-BCD7C99F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F9C552-A355-4997-A8B0-19EF2298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A6E463-D2C9-4945-B0A6-3F3ECE96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DF8255-2EE1-40AF-9366-1C6FBDE1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FC003A-135B-423B-9035-20071A53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2F655E-F6A5-4F8D-B49C-F4BAA63E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6539F1-2374-44A1-A234-860A9E4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2D17EF-5E20-4A1A-A181-2D67F1CC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3DED09-6C15-4AC4-BE0E-32A27897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BFFFD8-CA5C-44DC-9CA2-C249D92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4A96-176C-40D0-8AA9-E08E39A0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A0E8BD-66DA-4FC9-9FA1-E8ADCF4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8EB1E7-A8CA-4A71-B200-E79F3046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24E3AD-B01A-4281-A8F4-C99199D3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50BC88-7765-41BF-ADC1-DD3757ED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46A892-9703-4B2B-A06F-97421A04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747A3F-CE9A-480E-9EA6-E1939F14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6A3DFC-0679-4727-9D08-EA775AF5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44FA3E-1546-4664-A528-71709E37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EB2A7D-D2D4-4B8B-8DDC-263727F2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782556-3BBD-47DA-BED4-00E5DE9A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F626-C304-4923-B7D4-F4035815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99B649-3C4F-483F-A10B-259E6D1E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6F1CC2-1CCC-46D2-8844-0A30B27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F8DC46-E7B5-4C10-B390-D2B8DFDD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59D84E-ED30-4076-BFF2-5FFA6E7A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41710E-32CA-45E5-86F4-362B7B54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0AADE5-C447-4B28-8D55-8FD9BCD6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26A456-26E3-48B4-9998-2CB54506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011647-3611-4BE4-9023-1DE933EC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73FA7D-40FF-46FD-BB99-C06A660C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F50897-8E9C-43DF-ABF1-B814631F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CCF5-8DB9-4960-BE91-9D115E32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ECA3CC-E51A-4959-8AD2-A8587798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BABE5C-88BD-49F5-970D-F302A2C8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099962-BF59-4E20-95EA-EE6921E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4B549B-AD08-4598-9500-4854FC92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2B01A3-6359-4B10-8E44-EDFD5925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F9C993-7F66-426B-8B09-665DC942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5B23F2-DAE6-4846-B736-FAB6190C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477BB7-7C3F-4B81-AB3C-C1867157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681438-9982-4E5B-91F3-25B19319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55C702-DC52-4CF8-A2F0-E93020FF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BE2B-C833-4590-A7B0-B5E3BBF4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64F1C6-10B6-4904-A12C-EE6EC10F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767EB8-726D-47B4-8F2C-A1E78760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4FBEC8-6128-4DE1-A07C-9D305976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B4891A-7624-4066-8002-E4BCB19C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5E79E8-44E2-4895-AB11-1213286A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9DF560-1D66-4BFF-9C03-7C68D3F1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EB25A7-C16F-4E4E-B77A-A7FCC681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DF40DD-DE5E-47C3-9819-93E69CEE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E02E30-3B5D-4583-8AE0-9AC0A19F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A95AC1-9705-4BD4-BA0C-F028F25E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BAD3-C318-49BF-A45E-68D50493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E1E072-9C89-40FD-8589-DB11EFFC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CC4537-C8B4-423A-89D7-98B8B0CA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0684A5-B3E1-41D0-871C-42C20BBE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D3843C-9618-471E-8D59-A2260409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50C9F7-1A21-4F4D-BA4E-F22187F9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BB35E4-17AC-4E0D-93C2-835BCED5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1434E2-9195-4105-9C4E-47341FFB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EA3875-6D36-4A57-BD36-7B23E1AD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A3C151-441D-4AA5-B2C3-2847CDBB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8692C7-6E14-4EA3-9BCD-ABF14F8E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EE0D-7C81-44A0-91D9-3A12A79E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622A6C-1533-4553-9B50-E1022208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D1A9EE-067B-4D4A-811A-45838CC0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450A13-9A8A-4227-9BCB-9A3AC251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5F8E-73E1-4879-8A02-3EC3A885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A428-0C32-46DB-88AF-B76A8A6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BA3-6927-4C18-BC30-56AB2F5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C916A-C4A9-4F54-B9EC-F4A9B4CA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8F40C-1104-42A3-B713-BF2B6DE6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D2CD-F477-44D2-9220-486A77F4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D16D-8B71-4CF3-A972-2AE5C45F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ADB08-08B3-46B3-9916-38C2E054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DD2F-11C5-46C8-A292-272B387A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B600-2508-40E7-B0F6-0BF7FD8C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3EF8-AE0A-4E8C-AA1D-42A53BE3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5C217-3611-4476-A773-0CC08D78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60815-4B2B-4850-8388-BA825384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F63-BBE8-4FB3-8C71-76B37BE6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0609-8B8A-4790-B01B-A5D5087C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1B602-A5F6-4CF9-AAB4-BAD1BEA3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1DD3C-7C9C-4C3C-B7C7-3B54F3AD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0E4D1-7397-49FF-A771-9F86C92C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CDA2D-4A10-406D-8E7C-A8C35C8F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92079-E518-4BE9-9835-C63F91B7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5F194-1EED-4F42-8DB7-640CFE7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FAAF4-67B3-403C-A4B7-16EADA54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22BB-5A74-46E5-8003-E208A8D8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97602-9A01-4020-AD58-67EEDDDD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327-B18F-4AB1-BA63-769DBB8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6DA8-0915-4335-8327-C092FCBA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263A6-8395-46AD-AA05-829E2070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D8223-9D34-487F-8C4A-B7E12AC0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7280C-A62B-4445-B7A8-8F8ABBC1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3E74B-8997-4A34-B215-1B264DC2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C3CC-F8A0-4019-952C-1019B85B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A028D-A1FD-4641-B421-CA061A07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6EED-BC8B-4A37-AC8E-AF3B8DCB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82DF5-8E49-425C-9E85-3BAF2D0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83CBC-0F04-4640-BC53-78588AAB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73E-4EFC-4A50-B414-2B79F821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612A2-53EB-4464-9C08-CD142889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43244-E072-48AB-8E60-0099726A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182E4-9698-4F0F-B0A7-B3C5C0BB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9EB60-EA68-469C-9452-A8FAB9AE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F1AC6-8447-44F3-BFFB-86B4C420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48B05-F512-475B-990B-DA38E84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B5D2-5BC5-49E1-B694-E0B44137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F88A-E4D8-4FA4-8FD3-4E12380F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338CF-A678-4088-A015-604276D5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17F62-D7F9-42D7-A9CE-759DC4B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EE6-691C-4073-BE13-4179CC29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B32E0-8D40-4EED-9B26-6B616AC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374EE-9901-4E9A-B6F2-408DF633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4515-201D-4181-8C53-97655ACA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7CB48-5E47-41B4-8221-423B065B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F18C0-831C-4847-906E-8718AB03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24C03-E516-43A4-A70F-ACE5ED75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86F51-BCC9-423A-AA14-56B95D9F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C87CE-74F5-404C-91CF-9E0C9812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DA2BB-431B-4076-86AB-51B923B6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8B0B0-F6A3-487B-9E33-C364B432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D1B-39E6-43CB-BC0A-023FA03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A6253-FF4A-42ED-A3A3-8A780C45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57ACF-81E2-443A-A29D-2E496604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12B70-3D74-4780-823C-D84233B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1BAF0-0D8D-4FFA-9F98-83A541B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2ADEB-C5E6-4F3E-A5F5-0377D9D6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804A0-37E7-4917-A234-DAA9ACEF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6CCA0-6876-4189-833D-F42B642D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393BD-5055-4FFA-90E1-869CD76E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0A675-9034-499B-80D1-E85772D2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835D4-D5EA-4A9E-B806-2F32F7D8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2051-86F8-4974-83CF-6B96ED9061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0AAF-0D6A-49F8-960C-9411A21403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EEE2-E11C-487B-A7BB-2DE0866DF5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4FFE-E5FA-4A3E-A1B8-F9024DA54E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1EB-85BE-43BB-9E6B-D70D87D3D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BF13-0B8D-49C1-882A-49BF3EC56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B4C7-41BF-4AE6-A1FB-E97AB3CA2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E80A-1B69-4C43-9C5D-4C0AC01E64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5700-8BAF-44AE-8D20-F1DB66DDBC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11F1-A92D-4E01-A2FD-902A4113C0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557D-CE10-4B7B-802B-526B6B6115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DEA5-F0FA-4092-8504-9AE75F896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57E3-9177-446E-84DF-35F65A250A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F6FC-2CD1-41DB-8AEF-04D546E58F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30AA-ABF3-4F0D-8835-38A14258B5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7CA0-14AB-4FA9-A03E-985C384CD5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6C47-FB10-47E5-AF39-60C8BEB8B5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0D4C-693B-45FD-B2B0-59C0578715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B468-6783-481C-80CF-35B7E2633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14D8-063A-4EA8-A302-C491297209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1ECD-9C82-45E5-8FB1-91A341672B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D2C0-E00E-431A-AE3E-5BAB38BDA5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C6D5-540F-4BEC-A528-640D38C13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F6F2-A753-4577-BAE1-FC14B1C36A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E0EF-D009-4C6D-9F92-A04FF66C0A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7C28-80F2-4389-90A8-1114FDBB5C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EE3C-CC37-4AF2-B64F-801665FC65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F326-7FDE-47AD-B642-4C90B4051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A7C6-8AF0-4A9F-ADB8-BC74F199E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734A-12B2-4771-8E0B-51074EA4E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F14F-5FD5-4C94-BE34-F5FBABE981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A876-0CAE-493C-891A-3041727C76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3090-F8AA-4D0C-ABAA-46235E4658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53F1-F0AF-4FEE-A31D-3DBCBF8CD1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A2D4-4470-4F2A-8F3D-272972C76A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412D-9E1D-4BEE-9873-73C1F46C3A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D8C4-BA8C-4887-B9D1-6D9D7CD0E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B49B-DC00-44FF-BFD7-F30D9A190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A279-E040-47E6-96AD-C424B9168B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C43B-5FAA-455D-87F3-FFB9D7BFA6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29A2-E2C7-4313-B69F-8A7989B4B8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023D-70C9-4BA5-BE1D-AD5D53F501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194F-AD6B-45A1-A821-6676FDC84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374D-9C0B-4A7D-8E82-F370496E5F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C547-9B5B-43B0-92BA-48DD0455D5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62F0-40E7-42BA-8FFD-AA8424B30E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0C7E-175C-4230-8D26-BA00589216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9ACD-95D9-463A-A7C6-77F1F1C790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1B9F-4262-4460-8FA0-882E43F9DE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B0D-EB89-4413-ADFD-B8CB75FD69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446200" y="1146240"/>
            <a:ext cx="3515040" cy="3999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3019680" cy="372420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3862440" y="4943520"/>
            <a:ext cx="20145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2690640" y="5283360"/>
            <a:ext cx="321660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2670120" y="5643720"/>
            <a:ext cx="32162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2608200" y="5981760"/>
            <a:ext cx="32162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图片 132097" descr=""/>
          <p:cNvPicPr/>
          <p:nvPr/>
        </p:nvPicPr>
        <p:blipFill>
          <a:blip r:embed="rId1"/>
          <a:stretch/>
        </p:blipFill>
        <p:spPr>
          <a:xfrm>
            <a:off x="233280" y="880920"/>
            <a:ext cx="8067600" cy="3648240"/>
          </a:xfrm>
          <a:prstGeom prst="rect">
            <a:avLst/>
          </a:prstGeom>
          <a:ln w="0">
            <a:noFill/>
          </a:ln>
        </p:spPr>
      </p:pic>
      <p:sp>
        <p:nvSpPr>
          <p:cNvPr id="1382" name="矩形 132098"/>
          <p:cNvSpPr/>
          <p:nvPr/>
        </p:nvSpPr>
        <p:spPr>
          <a:xfrm>
            <a:off x="831960" y="2147760"/>
            <a:ext cx="6966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2099"/>
          <p:cNvSpPr/>
          <p:nvPr/>
        </p:nvSpPr>
        <p:spPr>
          <a:xfrm>
            <a:off x="831960" y="2763720"/>
            <a:ext cx="6966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2100"/>
          <p:cNvSpPr/>
          <p:nvPr/>
        </p:nvSpPr>
        <p:spPr>
          <a:xfrm>
            <a:off x="863640" y="3390840"/>
            <a:ext cx="6966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2101"/>
          <p:cNvSpPr/>
          <p:nvPr/>
        </p:nvSpPr>
        <p:spPr>
          <a:xfrm>
            <a:off x="884160" y="4068720"/>
            <a:ext cx="69660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图片 131073" descr=""/>
          <p:cNvPicPr/>
          <p:nvPr/>
        </p:nvPicPr>
        <p:blipFill>
          <a:blip r:embed="rId1"/>
          <a:stretch/>
        </p:blipFill>
        <p:spPr>
          <a:xfrm>
            <a:off x="392040" y="974880"/>
            <a:ext cx="8105760" cy="4476600"/>
          </a:xfrm>
          <a:prstGeom prst="rect">
            <a:avLst/>
          </a:prstGeom>
          <a:ln w="0">
            <a:noFill/>
          </a:ln>
        </p:spPr>
      </p:pic>
      <p:sp>
        <p:nvSpPr>
          <p:cNvPr id="1387" name="矩形 131074"/>
          <p:cNvSpPr/>
          <p:nvPr/>
        </p:nvSpPr>
        <p:spPr>
          <a:xfrm>
            <a:off x="5280120" y="3822840"/>
            <a:ext cx="987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1075"/>
          <p:cNvSpPr/>
          <p:nvPr/>
        </p:nvSpPr>
        <p:spPr>
          <a:xfrm>
            <a:off x="2681280" y="4468680"/>
            <a:ext cx="987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1076"/>
          <p:cNvSpPr/>
          <p:nvPr/>
        </p:nvSpPr>
        <p:spPr>
          <a:xfrm>
            <a:off x="6924600" y="4448160"/>
            <a:ext cx="987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0" name="图片 130049" descr=""/>
          <p:cNvPicPr/>
          <p:nvPr/>
        </p:nvPicPr>
        <p:blipFill>
          <a:blip r:embed="rId1"/>
          <a:stretch/>
        </p:blipFill>
        <p:spPr>
          <a:xfrm>
            <a:off x="638280" y="1047600"/>
            <a:ext cx="7638840" cy="4152960"/>
          </a:xfrm>
          <a:prstGeom prst="rect">
            <a:avLst/>
          </a:prstGeom>
          <a:ln w="0">
            <a:noFill/>
          </a:ln>
        </p:spPr>
      </p:pic>
      <p:sp>
        <p:nvSpPr>
          <p:cNvPr id="1391" name="矩形 130050"/>
          <p:cNvSpPr/>
          <p:nvPr/>
        </p:nvSpPr>
        <p:spPr>
          <a:xfrm>
            <a:off x="728640" y="2897280"/>
            <a:ext cx="76154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0051"/>
          <p:cNvSpPr/>
          <p:nvPr/>
        </p:nvSpPr>
        <p:spPr>
          <a:xfrm>
            <a:off x="760320" y="3543480"/>
            <a:ext cx="761544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0052"/>
          <p:cNvSpPr/>
          <p:nvPr/>
        </p:nvSpPr>
        <p:spPr>
          <a:xfrm>
            <a:off x="873000" y="4118040"/>
            <a:ext cx="76154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30053"/>
          <p:cNvSpPr/>
          <p:nvPr/>
        </p:nvSpPr>
        <p:spPr>
          <a:xfrm>
            <a:off x="893880" y="4765680"/>
            <a:ext cx="761508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图片 129025" descr=""/>
          <p:cNvPicPr/>
          <p:nvPr/>
        </p:nvPicPr>
        <p:blipFill>
          <a:blip r:embed="rId1"/>
          <a:stretch/>
        </p:blipFill>
        <p:spPr>
          <a:xfrm>
            <a:off x="642960" y="735120"/>
            <a:ext cx="6334200" cy="6048360"/>
          </a:xfrm>
          <a:prstGeom prst="rect">
            <a:avLst/>
          </a:prstGeom>
          <a:ln w="0">
            <a:noFill/>
          </a:ln>
        </p:spPr>
      </p:pic>
      <p:sp>
        <p:nvSpPr>
          <p:cNvPr id="1396" name="矩形 129026"/>
          <p:cNvSpPr/>
          <p:nvPr/>
        </p:nvSpPr>
        <p:spPr>
          <a:xfrm>
            <a:off x="749160" y="730080"/>
            <a:ext cx="611352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29027"/>
          <p:cNvSpPr/>
          <p:nvPr/>
        </p:nvSpPr>
        <p:spPr>
          <a:xfrm>
            <a:off x="668160" y="134784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29028"/>
          <p:cNvSpPr/>
          <p:nvPr/>
        </p:nvSpPr>
        <p:spPr>
          <a:xfrm>
            <a:off x="617400" y="194472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29029"/>
          <p:cNvSpPr/>
          <p:nvPr/>
        </p:nvSpPr>
        <p:spPr>
          <a:xfrm>
            <a:off x="504720" y="261144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9030"/>
          <p:cNvSpPr/>
          <p:nvPr/>
        </p:nvSpPr>
        <p:spPr>
          <a:xfrm>
            <a:off x="596880" y="325764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9031"/>
          <p:cNvSpPr/>
          <p:nvPr/>
        </p:nvSpPr>
        <p:spPr>
          <a:xfrm>
            <a:off x="617400" y="387504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9032"/>
          <p:cNvSpPr/>
          <p:nvPr/>
        </p:nvSpPr>
        <p:spPr>
          <a:xfrm>
            <a:off x="617400" y="4449600"/>
            <a:ext cx="611352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9033"/>
          <p:cNvSpPr/>
          <p:nvPr/>
        </p:nvSpPr>
        <p:spPr>
          <a:xfrm>
            <a:off x="771480" y="5118120"/>
            <a:ext cx="6113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9034"/>
          <p:cNvSpPr/>
          <p:nvPr/>
        </p:nvSpPr>
        <p:spPr>
          <a:xfrm>
            <a:off x="853920" y="5662440"/>
            <a:ext cx="611352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9035"/>
          <p:cNvSpPr/>
          <p:nvPr/>
        </p:nvSpPr>
        <p:spPr>
          <a:xfrm>
            <a:off x="853920" y="6340320"/>
            <a:ext cx="611352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40289" descr=""/>
          <p:cNvPicPr/>
          <p:nvPr/>
        </p:nvPicPr>
        <p:blipFill>
          <a:blip r:embed="rId1"/>
          <a:stretch/>
        </p:blipFill>
        <p:spPr>
          <a:xfrm>
            <a:off x="322200" y="979560"/>
            <a:ext cx="8524800" cy="401004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40290"/>
          <p:cNvSpPr/>
          <p:nvPr/>
        </p:nvSpPr>
        <p:spPr>
          <a:xfrm>
            <a:off x="6789600" y="1757520"/>
            <a:ext cx="8017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1"/>
          <p:cNvSpPr/>
          <p:nvPr/>
        </p:nvSpPr>
        <p:spPr>
          <a:xfrm>
            <a:off x="3378240" y="2168640"/>
            <a:ext cx="13255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2"/>
          <p:cNvSpPr/>
          <p:nvPr/>
        </p:nvSpPr>
        <p:spPr>
          <a:xfrm>
            <a:off x="5013360" y="2598840"/>
            <a:ext cx="8017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3"/>
          <p:cNvSpPr/>
          <p:nvPr/>
        </p:nvSpPr>
        <p:spPr>
          <a:xfrm>
            <a:off x="6492960" y="3009960"/>
            <a:ext cx="8017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4"/>
          <p:cNvSpPr/>
          <p:nvPr/>
        </p:nvSpPr>
        <p:spPr>
          <a:xfrm>
            <a:off x="8271000" y="4314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图片 139265" descr=""/>
          <p:cNvPicPr/>
          <p:nvPr/>
        </p:nvPicPr>
        <p:blipFill>
          <a:blip r:embed="rId1"/>
          <a:stretch/>
        </p:blipFill>
        <p:spPr>
          <a:xfrm>
            <a:off x="461880" y="893880"/>
            <a:ext cx="8524800" cy="5095800"/>
          </a:xfrm>
          <a:prstGeom prst="rect">
            <a:avLst/>
          </a:prstGeom>
          <a:ln w="0">
            <a:noFill/>
          </a:ln>
        </p:spPr>
      </p:pic>
      <p:sp>
        <p:nvSpPr>
          <p:cNvPr id="1344" name="矩形 139266"/>
          <p:cNvSpPr/>
          <p:nvPr/>
        </p:nvSpPr>
        <p:spPr>
          <a:xfrm>
            <a:off x="8402760" y="8953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7"/>
          <p:cNvSpPr/>
          <p:nvPr/>
        </p:nvSpPr>
        <p:spPr>
          <a:xfrm>
            <a:off x="8393040" y="3556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8"/>
          <p:cNvSpPr/>
          <p:nvPr/>
        </p:nvSpPr>
        <p:spPr>
          <a:xfrm>
            <a:off x="8372520" y="4460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69"/>
          <p:cNvSpPr/>
          <p:nvPr/>
        </p:nvSpPr>
        <p:spPr>
          <a:xfrm>
            <a:off x="5148360" y="5221440"/>
            <a:ext cx="812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70"/>
          <p:cNvSpPr/>
          <p:nvPr/>
        </p:nvSpPr>
        <p:spPr>
          <a:xfrm>
            <a:off x="7594560" y="5221440"/>
            <a:ext cx="1347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71"/>
          <p:cNvSpPr/>
          <p:nvPr/>
        </p:nvSpPr>
        <p:spPr>
          <a:xfrm>
            <a:off x="800280" y="5632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图片 13824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515440" cy="3257640"/>
          </a:xfrm>
          <a:prstGeom prst="rect">
            <a:avLst/>
          </a:prstGeom>
          <a:ln w="0">
            <a:noFill/>
          </a:ln>
        </p:spPr>
      </p:pic>
      <p:sp>
        <p:nvSpPr>
          <p:cNvPr id="1351" name="矩形 138242"/>
          <p:cNvSpPr/>
          <p:nvPr/>
        </p:nvSpPr>
        <p:spPr>
          <a:xfrm>
            <a:off x="5146560" y="1212840"/>
            <a:ext cx="1090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3"/>
          <p:cNvSpPr/>
          <p:nvPr/>
        </p:nvSpPr>
        <p:spPr>
          <a:xfrm>
            <a:off x="893880" y="2075040"/>
            <a:ext cx="1512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4"/>
          <p:cNvSpPr/>
          <p:nvPr/>
        </p:nvSpPr>
        <p:spPr>
          <a:xfrm>
            <a:off x="636480" y="3338640"/>
            <a:ext cx="4205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5"/>
          <p:cNvSpPr/>
          <p:nvPr/>
        </p:nvSpPr>
        <p:spPr>
          <a:xfrm>
            <a:off x="1057320" y="3740040"/>
            <a:ext cx="42051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7217" descr=""/>
          <p:cNvPicPr/>
          <p:nvPr/>
        </p:nvPicPr>
        <p:blipFill>
          <a:blip r:embed="rId1"/>
          <a:stretch/>
        </p:blipFill>
        <p:spPr>
          <a:xfrm>
            <a:off x="779400" y="903240"/>
            <a:ext cx="5705640" cy="286704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7218"/>
          <p:cNvSpPr/>
          <p:nvPr/>
        </p:nvSpPr>
        <p:spPr>
          <a:xfrm>
            <a:off x="790560" y="1357200"/>
            <a:ext cx="4994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7219"/>
          <p:cNvSpPr/>
          <p:nvPr/>
        </p:nvSpPr>
        <p:spPr>
          <a:xfrm>
            <a:off x="955800" y="1716120"/>
            <a:ext cx="4994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7220"/>
          <p:cNvSpPr/>
          <p:nvPr/>
        </p:nvSpPr>
        <p:spPr>
          <a:xfrm>
            <a:off x="1058760" y="2198520"/>
            <a:ext cx="49942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7221"/>
          <p:cNvSpPr/>
          <p:nvPr/>
        </p:nvSpPr>
        <p:spPr>
          <a:xfrm>
            <a:off x="853920" y="3009960"/>
            <a:ext cx="558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7222"/>
          <p:cNvSpPr/>
          <p:nvPr/>
        </p:nvSpPr>
        <p:spPr>
          <a:xfrm>
            <a:off x="884160" y="3462480"/>
            <a:ext cx="558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6193" descr=""/>
          <p:cNvPicPr/>
          <p:nvPr/>
        </p:nvPicPr>
        <p:blipFill>
          <a:blip r:embed="rId1"/>
          <a:stretch/>
        </p:blipFill>
        <p:spPr>
          <a:xfrm>
            <a:off x="306360" y="741240"/>
            <a:ext cx="8201160" cy="601056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6194"/>
          <p:cNvSpPr/>
          <p:nvPr/>
        </p:nvSpPr>
        <p:spPr>
          <a:xfrm>
            <a:off x="7694640" y="196200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6195"/>
          <p:cNvSpPr/>
          <p:nvPr/>
        </p:nvSpPr>
        <p:spPr>
          <a:xfrm>
            <a:off x="7694640" y="384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5169" descr=""/>
          <p:cNvPicPr/>
          <p:nvPr/>
        </p:nvPicPr>
        <p:blipFill>
          <a:blip r:embed="rId1"/>
          <a:stretch/>
        </p:blipFill>
        <p:spPr>
          <a:xfrm>
            <a:off x="485640" y="1052640"/>
            <a:ext cx="8172720" cy="475272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5170"/>
          <p:cNvSpPr/>
          <p:nvPr/>
        </p:nvSpPr>
        <p:spPr>
          <a:xfrm>
            <a:off x="4110120" y="2908440"/>
            <a:ext cx="79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5171"/>
          <p:cNvSpPr/>
          <p:nvPr/>
        </p:nvSpPr>
        <p:spPr>
          <a:xfrm>
            <a:off x="6772320" y="4757760"/>
            <a:ext cx="1449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4145" descr=""/>
          <p:cNvPicPr/>
          <p:nvPr/>
        </p:nvPicPr>
        <p:blipFill>
          <a:blip r:embed="rId1"/>
          <a:stretch/>
        </p:blipFill>
        <p:spPr>
          <a:xfrm>
            <a:off x="299880" y="868320"/>
            <a:ext cx="8010720" cy="540072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4146"/>
          <p:cNvSpPr/>
          <p:nvPr/>
        </p:nvSpPr>
        <p:spPr>
          <a:xfrm>
            <a:off x="852480" y="2106720"/>
            <a:ext cx="60008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4147"/>
          <p:cNvSpPr/>
          <p:nvPr/>
        </p:nvSpPr>
        <p:spPr>
          <a:xfrm>
            <a:off x="933480" y="2784600"/>
            <a:ext cx="60008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4148"/>
          <p:cNvSpPr/>
          <p:nvPr/>
        </p:nvSpPr>
        <p:spPr>
          <a:xfrm>
            <a:off x="912960" y="3390840"/>
            <a:ext cx="74689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4149"/>
          <p:cNvSpPr/>
          <p:nvPr/>
        </p:nvSpPr>
        <p:spPr>
          <a:xfrm>
            <a:off x="901800" y="4017960"/>
            <a:ext cx="74689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4150"/>
          <p:cNvSpPr/>
          <p:nvPr/>
        </p:nvSpPr>
        <p:spPr>
          <a:xfrm>
            <a:off x="1023840" y="4624560"/>
            <a:ext cx="44388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4151"/>
          <p:cNvSpPr/>
          <p:nvPr/>
        </p:nvSpPr>
        <p:spPr>
          <a:xfrm>
            <a:off x="1589040" y="5240160"/>
            <a:ext cx="44388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4152"/>
          <p:cNvSpPr/>
          <p:nvPr/>
        </p:nvSpPr>
        <p:spPr>
          <a:xfrm>
            <a:off x="1558800" y="5837400"/>
            <a:ext cx="44388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3121" descr=""/>
          <p:cNvPicPr/>
          <p:nvPr/>
        </p:nvPicPr>
        <p:blipFill>
          <a:blip r:embed="rId1"/>
          <a:stretch/>
        </p:blipFill>
        <p:spPr>
          <a:xfrm>
            <a:off x="262080" y="928800"/>
            <a:ext cx="8162640" cy="416232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3122"/>
          <p:cNvSpPr/>
          <p:nvPr/>
        </p:nvSpPr>
        <p:spPr>
          <a:xfrm>
            <a:off x="882720" y="211788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3123"/>
          <p:cNvSpPr/>
          <p:nvPr/>
        </p:nvSpPr>
        <p:spPr>
          <a:xfrm>
            <a:off x="830160" y="267192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3124"/>
          <p:cNvSpPr/>
          <p:nvPr/>
        </p:nvSpPr>
        <p:spPr>
          <a:xfrm>
            <a:off x="830160" y="337176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3125"/>
          <p:cNvSpPr/>
          <p:nvPr/>
        </p:nvSpPr>
        <p:spPr>
          <a:xfrm>
            <a:off x="892080" y="398772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3126"/>
          <p:cNvSpPr/>
          <p:nvPr/>
        </p:nvSpPr>
        <p:spPr>
          <a:xfrm>
            <a:off x="871560" y="4654440"/>
            <a:ext cx="5187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51:20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